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80235B53-8FE6-4436-903C-A86B5221D9DA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7C0-ECDA-48F8-989F-088ED39B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E9E-17AA-43C1-BD2C-2999BCCC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BE0-8230-490C-BA93-BB41C01F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FB7-712F-4152-A3F5-A7DCCB6A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5953-C956-4564-8A3B-7A02F630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C549-FDFF-4D74-A60E-8B4BD52A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F658-D1DA-48C4-9CCF-DB6B7D3D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230-CF42-4668-A316-3E1C16C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95F5-2D0C-4241-B638-4F49B228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9F4-D83A-4CC2-AEF8-FE688C69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7BFE-B122-46CB-B4B0-9153812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271-6DCA-4B66-9960-20FF7CBA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30FD-17E3-4DCB-847F-2591BC4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3D8B-8B2E-498E-8B02-244FB86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BC18-D715-490C-B588-F307D87B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0EEF-1F7F-4FB4-9C75-41B0A08F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4D0C-4D4E-421C-BCF5-2312E2D8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712-B5AA-425B-BD80-05A1D69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4C5-C72A-4CFF-B84E-2C98DBF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38A-056C-49A8-BCB2-029F52E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E0F-244E-474D-B4D7-3481EA2F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7D5-8C2C-4C14-8BDF-E892AAA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B54-C998-4741-8BA4-375227BB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06E-94FA-4D91-8D4E-7A849B7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B75B-B0A3-4E14-982F-99F503CE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8E4C-448B-4F59-AC30-D6B44EB1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Futuris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ОРГАН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ОЕКТА ВНЕД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З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конкретно необходимо сделать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19320"/>
            <a:ext cx="9067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и (ведущие специалисты) Заказчика и консультанты Исполнителя составляют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З используются в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автоматизируемых опера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входящих и исходящих докумен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отче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ация досту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е требования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детали интерфейса, скорость и точность вычислений и т.п.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П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ак будет сделан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944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 и ИТ специалисты Заказчика составляют Т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П используются при планировании и документировании раб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руктура хранимых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лгорит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спользуемые ресурсы системы, их структура и связ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ьский интерфей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ЛАНИРОВАНИЕ РАБОТ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ем и когда будет сделано и принят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295280"/>
            <a:ext cx="9448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неджеры проекта Исполнителя и Заказчика составляют рабочие программы (Р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и Исполнитель утверждаю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оставляются индивидуальные планы участников рабочей коман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Р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еречень работ: настройка, тестирование, прием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в перечень работ могут входить ТЗ и ТП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роки выполнения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ветственный за каждый пунк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ПОЛНЕНИЕ ОСНОВНЫХ СПРАВОЧНИКОВ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952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Может потребовать от 1 до 18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талкивает интересы подразделений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Требует централизации ввода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Является необходимым условием работы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пособы реал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конвертирование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учной ввод данных пользователями (операторами)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НВЕРТИРОВАНИЕ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371600"/>
            <a:ext cx="929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ожность алгорит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жест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ысокая надежность, но недостаточн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еобходим контроль со стороны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УЧНОЙ ВВОД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гиб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евысокая надеж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человеческий фактор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, но высок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экономич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 требуется специальное ПО и контроль со стороны пользователей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НАСТРОЙКА, ТЕСТИРОВНИЕ, ПРИЕМ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685800"/>
            <a:ext cx="9372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Самый трудоемкий и ответ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ущественно зависит от предварительной подготовки (регламенты, ТЗ, ТП, РП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Как правило не вписывается в плановые сро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Требует жесткой дисциплины как со стороны Исполнителя, так и со стороны Заказ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появлением дополнительных заданий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Требует гибкости со стороны Заказчика и  Исполнителя для преодоления конфликтных ситу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7. Должен заканчиваться предвари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62467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467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ЫТНАЯ ЭКСПЛУАТАЦ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609480"/>
            <a:ext cx="9372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идеале является «промышленной» эксплуат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Требует оперативности и надежности отклика от Исполн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ожет потребовать значительных усилий от Заказчика (двойная рабо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Имеет значительную длительность (1-3 меся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формированием окончательного списка замечаний (предложений), планированием и выполнением финальных работ по настройке, тестированию и прием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Должен заканчиваться оконча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626580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6580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ОКУМЕНТИРОВАНИЕ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95280"/>
            <a:ext cx="9220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Оформление инструкций для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Оформление регламентов взаимодействия подразделений в рамках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Доработка технической докумен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Формирование иных (заранее оговоренных) доку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ВЕРШЕНИЕ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295280"/>
            <a:ext cx="9345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Юридическое закрытие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кончательные финансовые расч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Принятие решений о дальнейшем сотрудничеств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заключение договоров технической поддержки и постгарантийного  сопрово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ализация новых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ЗАКАЗЧИКА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ировать структуру бизнес-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меньшить трудоемкость и сложность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величить оперативность и точность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решение Исполнителем поставленных задач с требуемым кач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сто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ГРАФИК ПЛАТЕЖЕЙ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Нулевой цик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Об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Обуче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Составление ТЗ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недр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Аванс (ТП, РП, настройка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Завершение этапа настройки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Завершение опытной эксплуатации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4. Юридическое закрытие договор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Заказчик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14360"/>
            <a:ext cx="9372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Участие в проекте топ-менедж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валифицированных ИТ специалис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Финансовая ответственность за невыполнение встречных обязательств перед Исполни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мотивация и стимулирование участников рабочей группы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447920"/>
            <a:ext cx="9372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Использование качественного продукта (надежного, гибкого, современ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оманды опытных консульт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Владение эффективными процедурами внедрения (технологиями внедр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наличие у Исполнителя готовых прикладных реш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084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Исполнител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ФЕДОСЕЕВ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Сергей Анатольевич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226692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Директор по внед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fsa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ИСПОЛНИТЕЛ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воевременное поступление финансов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шить задачи поставленные Заказч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должное каче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Нулевой цик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пределение основных целей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обслед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3" action="ppaction://hlinksldjump"/>
              </a:rPr>
              <a:t>подготовка специалистов Заказчи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4" action="ppaction://hlinksldjump"/>
              </a:rPr>
              <a:t>подготовка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5" action="ppaction://hlinksldjump"/>
              </a:rPr>
              <a:t>составление технических заданий (Т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Внедр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6" action="ppaction://hlinksldjump"/>
              </a:rPr>
              <a:t>составление технических проектов (Т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7" action="ppaction://hlinksldjump"/>
              </a:rPr>
              <a:t>планирование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8" action="ppaction://hlinksldjump"/>
              </a:rPr>
              <a:t>заполнение основных справ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9" action="ppaction://hlinksldjump"/>
              </a:rPr>
              <a:t>настройка, тестирование, прием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0" action="ppaction://hlinksldjump"/>
              </a:rPr>
              <a:t>опытная эксплуат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1" action="ppaction://hlinksldjump"/>
              </a:rPr>
              <a:t>документир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2" action="ppaction://hlinksldjump"/>
              </a:rPr>
              <a:t>завершение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Е ЭТАПЫ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2" name="">
            <a:hlinkClick r:id="rId13" action="ppaction://hlinksldjump"/>
          </p:cNvPr>
          <p:cNvSpPr/>
          <p:nvPr/>
        </p:nvSpPr>
        <p:spPr>
          <a:xfrm>
            <a:off x="8839080" y="5867280"/>
            <a:ext cx="738360" cy="685800"/>
          </a:xfrm>
          <a:custGeom>
            <a:avLst/>
            <a:gdLst>
              <a:gd name="textAreaLeft" fmla="*/ 0 w 738360"/>
              <a:gd name="textAreaRight" fmla="*/ 738720 w 738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3255" y="0"/>
                </a:lnTo>
                <a:lnTo>
                  <a:pt x="0" y="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3255" y="21600"/>
                </a:lnTo>
                <a:lnTo>
                  <a:pt x="23255" y="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3255" y="216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3255" h="21600">
                <a:moveTo>
                  <a:pt x="3577" y="2750"/>
                </a:moveTo>
                <a:lnTo>
                  <a:pt x="19677" y="10800"/>
                </a:lnTo>
                <a:lnTo>
                  <a:pt x="3577" y="1885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ем меньше четкости в формулировках целей проекта, тем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оки выполнения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тоимость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зочарование в результатах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то делать Заказчику, если его цели размыты или не определены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остичь максимально возможной четкости целей с помощью предварительного обследования сила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бственных сотрудн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Исполнит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ретьих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РЕДЕЛЕНИЕ ЗАКАЗЧИКОМ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Х ЦЕЛЕЙ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5360" y="1219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399960" indent="-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рядок проведения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Собрание с участием топ-менедж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Анкетирование и интервью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Составл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4. Утвержд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БСЛЕДОВАНИЕ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изменить, почему и для чег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86240"/>
            <a:ext cx="9220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зультаты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точняют цели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ужат исходными данными для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зволяют предварительно оценить объем работ, сроки и, следовательно, стоимость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СЕЦИАЛИСТОВ ЗАКАЗЧИ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9677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MS Windows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S Off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новы работы с системой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(в много-пользовательском режим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рикладных программ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УБД,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SQL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О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настройки ресурсов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системных администр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администрирования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резервного копирования данн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680" y="14292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680" y="609480"/>
            <a:ext cx="9601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Подготовка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Утверждение регла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ставления технической и плановой докум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ринятия оперативных решен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дачи-приемки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несения изменений в руководящи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Организация проекта (три уров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правляющ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1-ое лицо Заказчика или его заместитель и представитель Исполнителя). Совещания 1 раз в месяц. Определяют стратегию, выделяют ресурс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боч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руководители среднего звена и представители Исполнителя). Совещания 1 раз в неделю. Планируют, организуют и контролируют работ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абочая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АБОЧАЯ КОМАНД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альная структура рабочей коман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ведущие специалисты Заказчи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посредственные участники бизнес-процессов). Функции: консультации ИТ специалистов, текущий контроль и предварительная приемка работ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Т специалисты Заказчика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участие в разработке и доводке системы, оперативное консультирование пользователей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разработка, внедрение и адаптация ресурсов системы, консультирование ИТ специалистов Заказчик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1-27T10:31:11Z</cp:lastPrinted>
  <dcterms:modified xsi:type="dcterms:W3CDTF">2002-12-10T14:51:12Z</dcterms:modified>
  <cp:revision>441</cp:revision>
  <dc:subject/>
  <dc:title>ОСНОВНЫЕ НАПРАВЛЕНИЯ ДЕЯТЕЛЬНОСТИ АО ГЕЛИКОН ПРО</dc:title>
</cp:coreProperties>
</file>